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AD39-EEBB-4426-A42F-076653F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8A7-CDDC-4881-8369-4765BF20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5B3-DEC2-4C36-BB58-2902FEFA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9E4-1F40-48AF-8EF0-AEEEA42B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8B4-00CF-462B-9C32-A40EB181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C7F-2619-4BFA-BBDC-9C93A198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E39-6AC2-418E-95EA-45F2CDF8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1FD-91CF-4AC8-BD69-123DDAA7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73F-32EF-4A83-A4C1-CCF7915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C01-3C3F-4BFD-885D-C54E25F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073-42F1-4013-A6FD-20DA54D2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8D0-FDD0-4D44-B271-A4854F5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BA53-E910-4658-A483-8E2BDA3A1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gh-Frequency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1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 it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your c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iss you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ery important p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my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ook the c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far so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oung gi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eet hu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rk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every 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began to g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the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te clou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 so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o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ear the wa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most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really tru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time to e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e carry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ow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he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k to my fa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young 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ng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ut my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ve the clou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ch the g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eaceful Ind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out a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s and fl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ike being on the tea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all mount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o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child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ng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Ind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started to c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hear 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mportant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day of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l it la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most four m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he 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t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t the tre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ght in your ey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my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er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the f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he do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tarted the 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ween the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never happen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thou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y a whi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good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’t open the do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might be r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seemed too g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ong the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hard to op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own f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egi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se other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fri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ot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left it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child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ways be k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pap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 for mi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upon a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it oft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alked four mi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til 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econd l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 the musi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your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your so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48:50Z</dcterms:created>
  <dc:creator>Rob Hall</dc:creator>
  <dc:description/>
  <dc:language>en-US</dc:language>
  <cp:lastModifiedBy>Rob Hall</cp:lastModifiedBy>
  <dcterms:modified xsi:type="dcterms:W3CDTF">2003-11-17T02:12:27Z</dcterms:modified>
  <cp:revision>2</cp:revision>
  <dc:subject/>
  <dc:title>High-Frequency Phrases</dc:title>
</cp:coreProperties>
</file>